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146-8D4A-45B5-AC56-A9F064F5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336-5D8E-4BA6-81A6-D94B8E92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0BA5-73CD-4F4C-B3B8-BAF94444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460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42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547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04460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42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D49-1F65-4A07-B8E4-B6667417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1DB8-4088-4F90-A6AA-E652601D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AF2F-3F06-4C91-8F9C-8EFB2891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1F3C-E25D-47B7-967F-89B1B1A3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2E6A-E59D-4F60-8B6C-842A0019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E686-DA73-47CE-8509-5BA34BA2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29AA-6508-4557-BA3C-0C190D35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CC0F-7CB8-4F11-800F-C46D9855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869-FB88-4820-9211-0221CE45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2354-AFD0-4BC7-A4E7-7E5EF54C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6372-C819-42A3-93E0-C6F50F86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A46C-8812-47B6-AF76-714663E4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B91B-8CAF-44F5-8816-CC76F1EA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04460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42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547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04460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42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8284-7418-4CF2-9052-6E628643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A98-CF76-4396-AF09-A07B1D70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026-438E-424F-B8DF-F3CA047A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40A-027F-4FC6-8937-B2CD94CB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653-27E4-4FD9-9531-CC451905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08A-72AF-418E-9026-EB98CBBC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03D1-F667-4F42-8CF6-A1FFAA6F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56B2-4696-4E9A-8E65-0540DD19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611280" cy="6859440"/>
            <a:chOff x="0" y="-1440"/>
            <a:chExt cx="611280" cy="6859440"/>
          </a:xfrm>
        </p:grpSpPr>
        <p:sp>
          <p:nvSpPr>
            <p:cNvPr id="1" name=""/>
            <p:cNvSpPr/>
            <p:nvPr/>
          </p:nvSpPr>
          <p:spPr>
            <a:xfrm>
              <a:off x="41040" y="-1440"/>
              <a:ext cx="56844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040" y="4907160"/>
              <a:ext cx="5623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200" y="4856400"/>
              <a:ext cx="57600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9160" y="2816280"/>
              <a:ext cx="5821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040" y="3537000"/>
              <a:ext cx="46260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78560" y="425520"/>
              <a:ext cx="4320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81440" y="260640"/>
              <a:ext cx="42984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6720" y="-1440"/>
              <a:ext cx="2721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20" y="0"/>
              <a:ext cx="1418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4176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200" y="6228000"/>
              <a:ext cx="55044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A7F1-1C02-47F6-9B4C-88740BE0C67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60948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8302680" y="-1440"/>
            <a:ext cx="841320" cy="6859440"/>
            <a:chOff x="8302680" y="-1440"/>
            <a:chExt cx="841320" cy="6859440"/>
          </a:xfrm>
        </p:grpSpPr>
        <p:sp>
          <p:nvSpPr>
            <p:cNvPr id="55" name=""/>
            <p:cNvSpPr/>
            <p:nvPr/>
          </p:nvSpPr>
          <p:spPr>
            <a:xfrm>
              <a:off x="8359560" y="-1440"/>
              <a:ext cx="78264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59560" y="4906800"/>
              <a:ext cx="7747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50200" y="4856040"/>
              <a:ext cx="792000" cy="20005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43720" y="2816280"/>
              <a:ext cx="80028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96280" y="3537000"/>
              <a:ext cx="63648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48560" y="425520"/>
              <a:ext cx="59364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53240" y="260280"/>
              <a:ext cx="590760" cy="30718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53440" y="-1440"/>
              <a:ext cx="37440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53440" y="0"/>
              <a:ext cx="19512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02680" y="0"/>
              <a:ext cx="5868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62800" y="6227640"/>
              <a:ext cx="75744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22EA-B180-460B-A9E6-F4970E8498C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8317080" y="0"/>
            <a:ext cx="826920" cy="809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ИСТЕМА МОНИТОРИНГА И ОЦЕНКИ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ЕАЛИЗАЦИИ КОМПОНЕНТОВ ГОСУДАРСТВЕННОЙ ПРОГРАММЫ РЕФОРМИРОВАНИЯ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 РАЗВИТИЯ ЗДРАВООХРАНЕНИЯ  РЕСПУБЛИКИ КАЗАХСТАН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А 2005-2010 ГОДЫ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5320" y="5516640"/>
            <a:ext cx="47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Генеральный директор НЦПФЗОЖ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д.м.н., профессор Тулебаев К.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269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роблемы во время сбора данных</a:t>
            </a:r>
            <a:r>
              <a:rPr b="0" lang="ru-RU" sz="44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921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По некоторым индикаторам были получены не корректные данные (например, указано определенное количество организаций ПМСП, а информация по необходимому их количеству меньше почти в 2 раза)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По некоторым показателям были представлены не полные данные, что затрудняло анализ ситуации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Финансовые показатели представлялись в разных единицах измерения (млн. тенге, тыс. тенге, абсолютные числа), что затрудняло  анализ этих данных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Некоторые показатели вообще не были получены в силу отсутствия контроля со стороны департаментов здравоохранения (в основном это касается показателей ответственности государства и работодателей за здоровье населения)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477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езультаты апробаци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920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7 показателям сбор будет осуществляться с 2007 – 2008 годов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20 показателям сбор будет осуществляться с 2006 год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18 индикаторам информация не была получе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135 индикаторам была получена информация полностью или частичн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оводился сравнительный анализ показателей 2005 года по сравнению с данными 2004 го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42920" y="333360"/>
            <a:ext cx="747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езультаты апробаци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1197000"/>
            <a:ext cx="838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ая обеспеченность медицинских организаций протоколам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ый уровень подготовленности медицинских работников по использованию протоколо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ый контроль за оказанием медицинских услуг в соответствии с протоколами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сутствие утвержденных стандартов оснащенности медицинским оборудованием и изделиями медицинского назначени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обеспеченность организаций ПМСП методическими материалами по скринингу и профилактическим осмотрам, методическими и информационными материалам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освоение не только средств местного бюджета, но и целевых трансвертов (84,7%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ое обеспечение медицинских организаций минимальным стандартом оснащенности медицинским оборудованием и автотранспорто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руктура расходов в системе здравоохранения (стационар-75,6%, ПМСП-24,4%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ведена апробация рейтинговой оценки регионов по реализации Госпрограммы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Методическое руководств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692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Основные принципы и приоритеты системы мониторинга и оценки в реализации Государственной программы реформирования и развития здравоохранения РК на 2005 – 2010 год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Организационные мероприятия по разработке и внедрению системы мониторинга и оценки реализации Госпрограмм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Инструкция по сбору информации системы мониторинга и оценки реализации Госпрограммы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Временные отчетные формы по сбору информации по системе мониторинга и оценки реализации Госпрограммы и порядок их заполнения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Социологический опрос населения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Социологический опрос руководителей медицинских организаций о ходе реализации Госпрограмм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егиональные программы мониторинга и оценки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иказ Министерства здравоохранения от 22.09.2006г. №425 «О проведении республиканского семинара «Подходы и принципы к системе мониторинга и оценки программ здравоохранения в Казахстане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9 участников; из них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4 представителей регионов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 представителей международных организаций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 представителей МЗ РК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представитель Аппарата Президента РК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 представителей Республиканских организаций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 представителя ТОО «Мединформ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86920" y="2060640"/>
            <a:ext cx="738684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 32 индикаторов конечного результата страновой системы мониторинга и оценки Госпрограммы 17 индикаторов конечного результата учтены в региональных программ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го примерно 110 индикато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егиональные программы мониторинга и оценки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7993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каз Президента РК от 13 сентября 2004 года №1438 «О Государственной программе реформирования и развития здравоохранения Республики Казахстан на 2005-2010 годы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остановление Правительства РК от 13.10.2004г. №1050 « Об утверждении Плана мероприятий по реализации Государственной программы реформирования и развития здравоохранения Республики Казахстан на 2005-2010 годы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Концепция системы мониторинга и оценки реализации Госпрограммы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47280" y="2060280"/>
            <a:ext cx="738684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ограммно – целевой подхо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Функциональный подхо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тодология «Дерево  цели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920" y="2133720"/>
            <a:ext cx="9108720" cy="3382200"/>
            <a:chOff x="34920" y="2133720"/>
            <a:chExt cx="9108720" cy="3382200"/>
          </a:xfrm>
        </p:grpSpPr>
        <p:sp>
          <p:nvSpPr>
            <p:cNvPr id="115" name=""/>
            <p:cNvSpPr/>
            <p:nvPr/>
          </p:nvSpPr>
          <p:spPr>
            <a:xfrm rot="10800000">
              <a:off x="34920" y="2140560"/>
              <a:ext cx="9108720" cy="3375000"/>
            </a:xfrm>
            <a:prstGeom prst="rtTriangle">
              <a:avLst/>
            </a:prstGeom>
            <a:solidFill>
              <a:srgbClr val="ccec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53760" y="3433680"/>
              <a:ext cx="106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Вклад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10880" y="2923560"/>
              <a:ext cx="12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Процесс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34960" y="2434320"/>
              <a:ext cx="220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Промежуточный результат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60360" y="2206080"/>
              <a:ext cx="151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Ожидаемый результат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2240" y="2133720"/>
              <a:ext cx="106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Цел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07720" y="2141280"/>
              <a:ext cx="0" cy="7171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2680" y="2141280"/>
              <a:ext cx="0" cy="14677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60400" y="2139480"/>
              <a:ext cx="0" cy="229968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692480" y="2141280"/>
              <a:ext cx="8280" cy="28411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78120" y="2428200"/>
              <a:ext cx="455400" cy="430560"/>
            </a:xfrm>
            <a:prstGeom prst="leftArrow">
              <a:avLst>
                <a:gd name="adj1" fmla="val 50000"/>
                <a:gd name="adj2" fmla="val 26442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73960" y="3362760"/>
              <a:ext cx="454680" cy="430560"/>
            </a:xfrm>
            <a:prstGeom prst="leftArrow">
              <a:avLst>
                <a:gd name="adj1" fmla="val 50000"/>
                <a:gd name="adj2" fmla="val 26401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55840" y="2858760"/>
              <a:ext cx="454680" cy="430920"/>
            </a:xfrm>
            <a:prstGeom prst="leftArrow">
              <a:avLst>
                <a:gd name="adj1" fmla="val 50000"/>
                <a:gd name="adj2" fmla="val 26378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04960" y="2141280"/>
              <a:ext cx="455400" cy="430560"/>
            </a:xfrm>
            <a:prstGeom prst="leftArrow">
              <a:avLst>
                <a:gd name="adj1" fmla="val 50000"/>
                <a:gd name="adj2" fmla="val 26442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035320" y="5876640"/>
            <a:ext cx="4073040" cy="556920"/>
            <a:chOff x="5035320" y="5876640"/>
            <a:chExt cx="4073040" cy="556920"/>
          </a:xfrm>
        </p:grpSpPr>
        <p:sp>
          <p:nvSpPr>
            <p:cNvPr id="130" name=""/>
            <p:cNvSpPr/>
            <p:nvPr/>
          </p:nvSpPr>
          <p:spPr>
            <a:xfrm rot="10800000">
              <a:off x="814896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800000">
              <a:off x="503532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581328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0800000">
              <a:off x="659196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0800000">
              <a:off x="737028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145880" y="5876640"/>
            <a:ext cx="4073040" cy="556920"/>
            <a:chOff x="1145880" y="5876640"/>
            <a:chExt cx="4073040" cy="556920"/>
          </a:xfrm>
        </p:grpSpPr>
        <p:sp>
          <p:nvSpPr>
            <p:cNvPr id="136" name=""/>
            <p:cNvSpPr/>
            <p:nvPr/>
          </p:nvSpPr>
          <p:spPr>
            <a:xfrm rot="10800000">
              <a:off x="425952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114588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0800000">
              <a:off x="192384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0800000">
              <a:off x="270252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800000">
              <a:off x="348084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тодология «Дерево  цели»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продолжение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2708280"/>
            <a:ext cx="8121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цели» или достижения по основным направлениям Государственной программы (Госпрограмма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эффекта» или достижения ожидаемых (конечных) результатов Госпрограмм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результативности» или промежуточные результаты, которые позволяют отслеживать следствие реализации Плана Госпрограмм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процесса» или действия, которые позволяют отслеживать ход реализации Плана Госпрограмм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вклада» или объем выделенных ресурсов на реализацию Госпрограммы и степень их освоения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70028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 категорий индикаторов мониторинга и оцен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ндикаторы – «Цели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лучшение здоровья насел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епень солидарной ответственности государства и человека за его здоровь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лучшение охраны здоровья матери и ребенк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вершенствование системы организации медицинской помощи населению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вершенствование системы управления здравоохранение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333360"/>
            <a:ext cx="619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ндикаторы  эффект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224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индикатора конечного результа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4653000"/>
            <a:ext cx="67676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сего - 180 показателе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3213000"/>
            <a:ext cx="770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ндикаторы результативности, процесса, вклад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0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хема потоков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истемы мониторинга и оцен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0920" y="3070080"/>
            <a:ext cx="2232000" cy="15829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абочи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рган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по СМ и 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49840" y="1989000"/>
            <a:ext cx="2592360" cy="642600"/>
          </a:xfrm>
          <a:prstGeom prst="rect">
            <a:avLst/>
          </a:prstGeom>
          <a:solidFill>
            <a:srgbClr val="cce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АИС «Здравоохранение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78560" y="4797360"/>
            <a:ext cx="259236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Дополнительная информац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4920" y="4870440"/>
            <a:ext cx="2592360" cy="642600"/>
          </a:xfrm>
          <a:prstGeom prst="rect">
            <a:avLst/>
          </a:prstGeom>
          <a:solidFill>
            <a:srgbClr val="66ff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«Мединфо»            База данны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1844640"/>
            <a:ext cx="2592360" cy="91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Другие министерства и ведомст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1480" y="2781360"/>
            <a:ext cx="792360" cy="64764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059280" y="4221000"/>
            <a:ext cx="623880" cy="64944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506560" y="2637000"/>
            <a:ext cx="1008360" cy="82548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2920" y="3933720"/>
            <a:ext cx="1224000" cy="86364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4200" y="2781360"/>
            <a:ext cx="936720" cy="8636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70200" y="4149720"/>
            <a:ext cx="720720" cy="72072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49840" y="4149720"/>
            <a:ext cx="936720" cy="6476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649840" y="2637000"/>
            <a:ext cx="1152720" cy="10112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0200" y="5734080"/>
            <a:ext cx="2160360" cy="520200"/>
          </a:xfrm>
          <a:prstGeom prst="rect">
            <a:avLst/>
          </a:prstGeom>
          <a:solidFill>
            <a:srgbClr val="ffc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Социологические исследовани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6560" y="5734080"/>
            <a:ext cx="2160720" cy="520200"/>
          </a:xfrm>
          <a:prstGeom prst="rect">
            <a:avLst/>
          </a:prstGeom>
          <a:solidFill>
            <a:srgbClr val="ffc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Временные отчетные формы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218200" y="5445000"/>
            <a:ext cx="1441440" cy="28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5445000"/>
            <a:ext cx="1150920" cy="28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7556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сточники информации для формирования индикатор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3304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2 индикаторов собираются из других министерств и ведомст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44 индикатора входят в официальную статистическую отчетно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0 индикаторов собираются КГСЭН и РСЭС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4 индикаторов находятся  под патронажем Комитета контроля качества оказания медицинских услуг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0 индикаторов относятся к подготовке и переподготовке врачебных и средних медицинских кадров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 индикатора предоставляются Республиканским Центром борьбы со СПИД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 индикатора представляется Национальным Центром проблем туберкулеза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 индикаторов получены в результате социологических исследований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6 индикаторов касаются фармацевтической деятельности и предоставляются Комитетом фармации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61 индикаторов собирается из департаментов здравоохранения регионов по временным отчетным формам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4:57:54Z</dcterms:created>
  <dc:creator>user</dc:creator>
  <dc:description/>
  <dc:language>en-US</dc:language>
  <cp:lastModifiedBy>sauko</cp:lastModifiedBy>
  <dcterms:modified xsi:type="dcterms:W3CDTF">2006-11-09T14:00:07Z</dcterms:modified>
  <cp:revision>9</cp:revision>
  <dc:subject/>
  <dc:title>СИСТЕМА МОНИТОРИНГА И ОЦЕНКИ  РЕАЛИЗАЦИИ КОМПОНЕНТОВ ГОСУДАРСТВЕННОЙ ПРОГРАММЫ РЕФОРМИРОВАНИЯ  И РАЗВИТИЯ ЗДРАВООХРАНЕНИЯ  РЕСПУБЛИКИ КАЗАХСТАН  НА 2005-2010 ГОДЫ</dc:title>
</cp:coreProperties>
</file>