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FC1-D66A-4D11-B16B-02E60244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AA9A-0FD0-4F67-90DF-1D5924FD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879-54B5-488F-A178-453A8A0B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B0F-FE35-4A9C-886A-6E5F47C5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73D2-AAC8-4FEF-8B7D-B91802ED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27DD-6219-4179-A9D3-9B841D5B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3CC8-A1DD-4D89-A5CA-9C7C5553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C9C3-E410-47AE-B8A0-773DE8D1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480A-230F-4396-B231-44075188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2101-A893-48CE-9DC7-7417ABDE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6FBF-3156-4CB3-818D-69C69606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1F8A-C13C-4710-903C-93CBBA32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4D51-45BC-4A16-AEAF-403E5BD6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D6F4-1D57-4D40-8BBB-D77861CB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D539-5954-40C7-A6EA-176E350D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2F1C-CEA7-41B7-83DE-0BF5550C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5829-C237-45FD-A592-8A75B0E8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0B7-C004-4219-A7B0-EC6B663E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A7C-6A2F-4104-8C95-6320F221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F62-4F93-4490-9506-A07D15BB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2D5-2E9B-48A2-9552-74876696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C2C-A532-459C-AC8A-FE1C1644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70D-0668-460A-A102-36600520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63D-7B2E-4992-A0CA-74BB3BBE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B108-C6D7-4B0C-9448-78A61B5B66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DCA6-D22B-4E8D-90E5-D47D443BC9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Правовые и организационные вопросы Национальных счетов здравоохран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.Т. Танирберг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дицинский информационно-аналитический центр, г. Актоб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12440" y="1371600"/>
            <a:ext cx="780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Правовые и организацио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вопросы внед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Национальных счетов здравоо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600" y="4317840"/>
            <a:ext cx="763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.Т. Танирберг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дицинский информационно-аналитический цен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. Акто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F03B-93E5-4D0F-BBD3-EF55539D2A5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Закон РК «О государственной статистике»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07.05.1997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Все физические и юридические лица, обязаны безвозмездно предоставлять первичную статистическую информацию при проведении государственных статистических наблюдений, предусмотренных планом статистических работ (статья 3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Ведомственные статистические наблюдения, в т.ч. форма №19, входит в число государственных статистических наблюдений (статья 2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лан статистических работ утверждается Правительством (статья 3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628-23F6-4CD2-8700-552E5E8251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Закон РК «О государственной статистике»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07.05.1997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коном гарантировано сохранение конфиденциальности статистической информации, в т.ч. содержащие сведения, отнесенные к коммерческой или иной охраняемой тай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ространение статистической информации, содержащей коммерческую тайну преследуется законодательными акт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оАП РК ст. 383 - продажа, передача или иное разглашение статистических данных, содержащих коммерческую тайну, должностным лицом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8D1A-C683-434F-B1CC-F66BF28C83C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равовой механизм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. 8 Закона установлено, что уполномоченный орган издает НПА по вопросам государственной статистики, исполнение которых обязательно для всех физических и юридических л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ном статистических наблюдений на 2006 год, в числе ведомственных наблюдений проводимых МЗ РК предусмотрена форма №19 «Отчет о расходах здравоохране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тановления Правительства не подлежат государственной регистрации в органах юстиции, имеют прямое применение на всей территории страны и подлежат исполнению всеми лиц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68B-6D4C-4893-8BAB-53A40B7497F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Организационные вопросы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7724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Обучение респондентов надлежащему заполнению отчетной формы и базы данных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Обучение персонала качественному сбору и своду информации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Техническое, программное обеспечение процесса сбора информации и устранение возникающих «проблем»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Обеспечение качественного анализа полученной информации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A4F-3D83-44DB-951F-F5C276AA33C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Организационные вопросы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рганизации – получатели бюджетных средст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нные бухгалтерского уче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поставление функциональной классификации расходов бюджета с функциями (видами медицинских услуг в НСЗ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государственные организаци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деление «приходной» части финансов соответственно функциям НСЗ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деление из «приходной части» дохода (прибыли) для фиксации расхода организации на поставку медицинских услу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1E3-A483-45F4-94FF-F4371E3018D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олучатели бюджетных средств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грамма 004 «Оказание стационарной медицинской помощи по направлению…ПМСП…» - соответствует «НС. 1.1.2 Услуги лечения. Стационарная медицинская помощь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грамма 011 «Оказание скорой и неотложной помощи» - соответствует «НС. 4.3 Вспомогательные услуги. Оказание экстренной и неотложной медицинской помощи и транспортировка пациентов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001-00B1-4C86-9AC5-F394E37D0DF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олучатели бюджетных средств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блемное сопоставл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абилитационное лечение в дневном стационар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нирование семьи и семейные консульт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филактика инфекционных заболев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абилитационный уход на дом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оставление медицинских товаров амбулаторным больным, и друг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щность проблемы – проведение финансового ауд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C5B-6DC4-4026-BE3D-DC7CCD519F8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егосударственные организац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433600"/>
            <a:ext cx="826920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ет всей «приходной» части финансов, полученных от поставки медицинских услуг – включается прибыль, некоторые и платеж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ет непосредственно «расходов» поставщика на оказание медицинских услу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559-647C-4E52-A38D-F046B699849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СЗ и фармацевтическая деятельность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3400"/>
            <a:ext cx="826920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лассификация поставщиков услуг сопоставима с классификацией согласно Закона РК «О лекарственных средствах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льшинство субъектов фармацевтической деятельности реализуют ИМН и МТ через аптечные орган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обходимость аудиторского подхода при формирования отче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9A9-3E9B-4E15-956E-F3ABB6A0750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. Анализ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433600"/>
            <a:ext cx="82692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назначены для структурирования групп расходов, соответствующих профилю деятельности организации здравоохран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ля государственных организаций НСЗ не пригодно  в целях финансового контроля в силу не полного их отра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СЗ позволяет группировать финансовые ресурсы для определения структуры рынка медицинских услу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9B0-1BF5-407C-A9E5-A38E275CAFC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79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сударственной Программой реформирования и развития здравоохранения Республики Казахстан на 2005-2010 годы, в рамках совершенствования системы финансирования отрасли предусмотрено внедрение в 2006-2007 годах Национальных счетов здравоохранения (НСЗ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СЗ позволяет определить в денежном выражении вклад всех государственных, общественных и иных институтов (государственный бюджет, средства населения, страховые взносы, иностранные организации, средства работодателей и т.д.) в систему здравоохран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D8A-71F0-4882-888B-935BEBFDA41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. Анализ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158920"/>
            <a:ext cx="796932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 точном заполнении всеми субъектами позволяет определить структуру затрат общества на здравоохранения, долю и объемы бюджетов каждого поставщика услуг в разрезе видов функц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руктурированные денежные потоки в динамике позволяют проследить изменение источников финансирования здравоохранения (нагрузки бюджето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2C1-7638-4B58-B92A-11F90506363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. Анализ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26956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ение структуры расходов и финансовых потоков позволит выразить в денежном эквиваленте межсекторальное взаимодействие общественных институтов и солидарную ответственность социальных сегментов за общественное и индивидуальное здоровье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86C-E010-477B-AF4D-C8B8612362FD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бор полной и достоверной информации дает возможность использовать НСЗ как индикатор важнейших принципов государственной политики в области здравоохранения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олидарной ответственности государства, работодателей и граждан за сохранение и укрепление индивидуального и общественного здоровья;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межсекторального взаимодействи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6BD-A3B4-4B0D-BBB3-0CE14E3E5A6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Организация сбора информац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9520" y="22860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Отчет о расходах организации здравоохранения» - форма годовой статистической отчетности №19, утвержденной приказом председателя Агентства РК по статистике от 23 января 2006 г. №1-г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ряду с бумажным носителем – программный комплекс «Национальный счета здравоохранения» (Разработчик: ТОО «Мединформ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государственных органов, осуществляющих сбор информации - приказ И.о. Министра здравоохранения от 10 апреля 2006 г. №170 «О предоставлении ведомственной статистической отчетности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576D-E60C-4651-952D-191DC80D32A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1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5840" y="22096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бираемые сведения имеют прямое отношение, или составляют коммерческую тайн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зражения и прямые отказы лиц негосударственной формы собственности, в предоставлении информации по форме №1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учаи не предоставления частными субъектами информации имели место в некоторых областях Республики, (Круглый стол, 5 сентября 2006 г., г. Астана, «Общество «Диабет» (г. Тараз)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ание для отказа в предоставлении информации - приказ МЗ РК №170 не прошел регистрацию в органах юстиции и следовательно не подлежит применению в отношении частных субъект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E9C-DE6C-4327-88E4-7CF4419812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2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50384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сть за сбор информации по неутвержденным форма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АП РК, статья 384 – сбор статистической информации по неутвержденным форм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A85-C56F-46D0-B633-3A34B262F2B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3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дание и исполнение приказа №170 не регулируется Законом РК от 24.03.1998 г. «О нормативных правовых актах» - приказ не отвечает требованиям подпункта 1) статьи 1 Закона (отсутствие вводимой новой правовой нормы, рассчитанной на многократное применение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применительное и правореализующее знач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ен круг исполнител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тановлен четкий срок исполн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утствует прямое указание респондента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0AF-9B7A-4461-B8B7-4F002296AB2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4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зражения субъектов об отсутствии  государственной регистрации приказа №170 в органах юстиции в порядке предусмотренном Законом «О нормативных правовых актах» являются необоснованны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авовое основание, устанавливающие обязанность лиц предоставлять информацию по форме №19 – нормативные правовые акты в сфере статист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3D6-29A2-42E6-8D2B-626F63AE1B4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равовое основани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Закон РК от 07.05.1997 «О государственной статистике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остановление Правительства РК от 02.11.2002 «Об утверждении Правил проведения общегосударственных статистических наблюдений и обеспечения государственных органов статистической и аналитической информацией»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остановление Правительства РК от 31.01.2006 №58 «Об утверждении Плана статистических наблюдений на 2006 год»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равила предоставления статистической отчетности, утвержденных приказом Председателя Агентства РК по статистике от 10.07.2002 №72 (зарегистрированы в МЮ РК 09.08.2002 №1947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9AF-6AF5-456A-8472-45504F62B09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tobe</cp:lastModifiedBy>
  <dcterms:modified xsi:type="dcterms:W3CDTF">2006-10-19T21:54:3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