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F9F-088A-4990-887A-30B4703E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B49-49FD-44AB-8AB2-7971ACDD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96D-83DD-43A6-90B2-DE2EDBEF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05D-2BF9-44E7-A898-9008778B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B770-0E14-4351-BAF6-85BFC2A0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733C-9904-42A4-89FE-41241069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F023-01B3-4182-97A1-A88D4F12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2FF9-4DC0-4640-8E49-09C3EFAE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D71B-EDB1-487D-A09B-B8CEFBB7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C124-F1FA-4254-B78C-2BAF4594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DAD9-89E5-4070-A79A-3BAF50A9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172-CE4B-4853-84B2-F65F7597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C536-E302-4A87-845E-02399972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E9BA-1323-452F-8FF2-67C7D3AE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AE86-7D56-4306-B609-9F0E975E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F7E1-0800-4573-81F0-BD95538C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C548-1A3E-4B01-BE7B-44716CAD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4B7-1FD3-4C57-A555-0748DCFC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7D6-91CA-4B82-878B-E1E62B62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8B9-CE20-4C44-A71A-B1CC379E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C0B-FA37-4CF0-9779-9D025413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8F9-152A-49C0-A932-4D714DA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583-9B40-4C84-9158-BD1FD5FB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151-B64C-4637-ADC3-DEF4007C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2554-76C5-4513-9E69-03F9118025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846F-8F2F-4EFF-843A-3F4EF89E50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овершенствование основ политики и управления  в здравоохранении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KULZHANOV M.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akhstan School of Public 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aty, October 20-2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ретьей составляющей оценки качества управления является анализ показателя эконом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т.е. соотношения результата к затр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Управленческие решения на уровне обла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6% - решения по частным вопро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4% - значим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3% - принятые единолично руко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% - развитию общестационарной и ПМ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решении по вопросам специализирован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истема подбора, обучения и расстановки кадр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верждение критериев от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бор резерва руководящих ка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авление на обучение (1-2 годичные к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вижение на руководящую дол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Управления по результатам в здравоохранении,основные раздел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ясных целей и подцелей дл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системы сбалансированных показателей здоровья и развити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змы работы в новой системе управления  и взаимодействие  учреждений здравоохранения между собой и с вышестоящими уровнями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нансирование (одноканальная система финансирования, составление проекта бюджета  ориентированного на результат (показатели здоровья и др. индикаторы) (новая форма бюджетной заяв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ять целей системы здравоохранения для  повышения показателей здоровья населени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болезней системы кровообра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онкологических заболеваний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травм и от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заболеваемости населения болезнями органов дыхания, включая Т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детской забол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повышения эффективности системы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49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 внедрение новой системы планирования и  финансирования по методологии бюджетирования ориентированного на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истемы стимулирования ЛПУ за эффективное использование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системы учета таким образом, чтобы она позволяла оценить воздействие оказываемых услуг на здоровье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стандартов качества оказываемых услуг в каждой ЛПУ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11640" y="333000"/>
            <a:ext cx="257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долж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лановых значений уровня качества оказываемых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периодического мониторинга качества оказываем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типовой системы мотивации персонала, ориентированной на достижение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единой закупочной политики лекарственного обеспе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тернет-сайтов департаментов здравоохранения обл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торой составляющей оценки качества управления является анализ результатив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езультативность характеризуется соотношением поставленных целей и достигнут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Пример показателей, характеризующих результативность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ность от болезней системы кровообращения на 100 000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ая заболеваемость туберкулёзом на 100 000 взрослого и детского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ая выявляемость онкологических заболеваний в I-II стади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мплектованность физическими лицами должностей врачей-терапевтов участковых, врачей-педиатров участковых, врачей общей практики их соотнош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ельный вес больных инфарктом миокарда, госпитализированных в первые 6 часов от начала заболе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ы целевых показателей реформирования управления системой здравоохранения для областного уровня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формированной бюджетной заявки по новой методологии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я медицинских работников, прошедших обучение по алгоритмам оказания усл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утвержденного Плана мероприятий по реализации Кадровой политики в сфере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Единой базы данных по врачебному и сестринскому персоналу, работающему в учреждениях здравоохранения обла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снащения учреждений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ичность обновления Интернет-сайта департамента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целевых показателей здоровья для районного уровня управления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инфаркта миокарда и цереброваскулярных болезне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ичная летальность от инфаркта миокарда и цереброваскулярных болез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травм и отравлени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летняя выживаемость больных онкологическими заболевани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та обострений хронических заболеваний у детей, состоящих на диспансерном учете в данном учреждении здравоохранения, наличие группы ЧД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9:25:21Z</dcterms:created>
  <dc:creator>Kulzhanov</dc:creator>
  <dc:description/>
  <dc:language>en-US</dc:language>
  <cp:lastModifiedBy>sauko</cp:lastModifiedBy>
  <dcterms:modified xsi:type="dcterms:W3CDTF">2006-10-19T15:08:37Z</dcterms:modified>
  <cp:revision>4</cp:revision>
  <dc:subject/>
  <dc:title>Cовершенствование основ политики и управления  в здравоохранении </dc:title>
</cp:coreProperties>
</file>