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AD3-8F49-446A-873B-679EF378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3A1-B7B2-414E-93AF-AA1EB98F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9DA8-3F4D-4AF8-8881-9555B923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73D-27D3-45D1-9ED6-C4B1FEA4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F8B-9CA0-466F-8F6E-8AD18B60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8FA-474E-4210-AF41-D0E0B2AA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0CF-C5E0-497B-8249-A4043820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0E5-52BC-49FF-BA02-915088DD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95E-AC62-4BB0-ACA9-AFE070A2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1DF9-64C8-40B1-A3C3-50637B74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FB3-08EF-4750-A986-8EB6766A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AC4-59F0-4FD6-82C5-3FB7C1AB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1968-A002-4BED-BF1A-AAC34641A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сто и роль службы крови в обеспечении безопасности медицинской помо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титут развития здравоохранения МЗ 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ймагамбетова М.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комендации ВОЗ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ба переливания крови с централизованным управлением на уровне страны и системами управления качеством на всех уровн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товка крови от добровольных доноров из групп населения с низким риском на безвозмездной основе. Привлечение к донорству здоровых людей уменьшает риск сбора инфицированной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рининг всей заготовленной крови на маркеры гемотрансмиссивных инфекций: ВИЧ-инфекция, гепатиты и сифи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екватное клиническое использование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е ежегодного Дня Донора 14 ию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*ДОКУМЕНТЫ ВОЗ и МЕЖДУНАРОДНЫЕ ПРОЕКТЫ Выпуск 14, Январь 2006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лобальная программа ЕС по координации службы крови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ая программа по трансфуз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пция государственной поли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и подзаконные нормативные 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ая материально-техническая 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, выделенный специально для реализации Государствен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вольная безвозмездная сдача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ые стандарты деятельности организаций служб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лифицированный персонал на республиканском и местных уровн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ая оценка качеств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tory Instrument 2005 N5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рабочей группы при МЗ РК с участием научных и практических работников для выработки следующих научно обоснованных 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Концепции государственн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ритетные направления развития службы крови в области безопасного доно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а поощрения донорства на бесплатной осн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ая программа по развитию и стандартизации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стандартов для различных уровней организаций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риально-техническое оснащение (оборудование, помещения, персон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дарты 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научно обоснованной методологии аудита и проведение аудита всех организаций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ка степени соответствия стандар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потребностей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рнизация службы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нование госинвестиций на основе отчета по результатам ауд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оснащение существующих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е новых\увеличение мощностей или оптимизация действующих согласно оценке потребностей рег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инг реализации Государственн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язательность ретроспективного наблюдения реципиентов крови и крове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илить пропаганду бесплатного доно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зопасность крови и кровепроду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редупреждение передачи с донорской кровью инфекционных заболеван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Ч инфек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патитов В и 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фи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овая ос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спублике Казахстан деятельность службы крови регламентируется следующими закон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б охране здоровья граждан в РК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 донорстве крови и ее компонен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 профилактике заболевания СПИД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а службы кров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ы крови (республиканский, областные, г.г. Астана и Алматы, региональные) – 2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еления переливания крови в ЦРБ и ряде сельских больниц –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ницы, заготавливающие кровь – 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По данным РЦ кров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2006г.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ужба крови осуществ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ятельность по снабжению организаций здравоохранения кровью и ее компонент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у показаний к переливанию крови и ее продуктов в клин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едрение новых препаратов крови, консервирующих растворов, а также кровезамен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ль службы кр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бор дон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ор и заготовка крови и ее проду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ственность за безопасность кров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перебойное снабжение лечебных организаций цельной кровью и ее проду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ственность за здоровье дон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дельные показатели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чество доноров – 300 тыс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м заготовки консервированной крови – 280 тыс. ли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ливание цельной крови – 4,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По данным РЦ крови –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Ч-инфекция среди дон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3 году 30 доноров с ВИЧ были выявлены в 5 областях республ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4 году – 22 донора в 7 облас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5 году – 30 доноров в 8 областя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имущественно эти доноры из группы риска (9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начало 2006 года (за период регистрации ВИЧ в РК) выявлено всего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2 донора с ВИЧ инфекцие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кровь уничтоже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ВИЧ инфицированных реципи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бсолютный брак кр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реднем в год более 4%* забираемой крови уничтожается в связи с положительными результатами в ИФА на ВИЧ, гепатиты В и С, сифил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- по данным РЦ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4:22:47Z</dcterms:created>
  <dc:creator>18</dc:creator>
  <dc:description/>
  <dc:language>en-US</dc:language>
  <cp:lastModifiedBy>18</cp:lastModifiedBy>
  <dcterms:modified xsi:type="dcterms:W3CDTF">2006-10-20T02:09:19Z</dcterms:modified>
  <cp:revision>27</cp:revision>
  <dc:subject/>
  <dc:title>Место и роль службы крови в обеспечении безопасности медицинской помощи</dc:title>
</cp:coreProperties>
</file>