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847-4554-40AE-BF11-74620720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A9D-C35D-449C-B805-2414A01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47E-5F8C-445F-A72E-3D728582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5CC-8698-4A4C-A11E-C1EE746C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D368-63AD-48F4-99EC-7362672C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EE8-DB04-49FA-8A7F-7A9973CB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C909-2D01-47B5-8BD2-6AF50183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272A-F2A8-4D06-9919-A0E13522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028-A226-4572-ACE2-D9D9C5A6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9112-E0C8-4AF6-B81D-662BA282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55B0-EC77-4CAC-AB0A-E3E04C6F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B36-55DB-4CD2-818F-2D12D73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9C83-7538-4163-813E-723E8BA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7E7-15D2-496D-AEBD-B952C62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1CD-AF2D-4F2B-89AD-920636F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DC98-FEC0-4956-BB93-5E994E00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697B-76ED-4EFE-A472-2BC4FA57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862-6967-4907-A771-50098B3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4F3-4D75-4461-A221-9997CAE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9CD-E1B5-4DBE-BBE8-1AD16C8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12F-4CC5-4840-841A-E32D7AD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40F-549B-48E3-AEBD-8CEE39B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23F-3076-47EC-9C19-88FE780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88F-463E-4A29-81FF-6F9BF95D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38B-BFD3-4F2A-A8E6-57BDF803C0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B91-A7AF-4C0B-9091-A9EE70246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64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 в будущее. </a:t>
            </a:r>
            <a:br>
              <a:rPr sz="4800"/>
            </a:br>
            <a:r>
              <a:rPr b="0" i="1" lang="ru-RU" sz="3200" spc="-1" strike="noStrike">
                <a:solidFill>
                  <a:srgbClr val="330066"/>
                </a:solidFill>
                <a:latin typeface="Monotype Corsiva"/>
              </a:rPr>
              <a:t>Здравоохранение Казахстана на пороге структурных преобразований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ые элементы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енное преобразование ПМ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больничного д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трехуровневой системы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дрение международных стандартов в лекарственном обеспеч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медицинского образования и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и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специализированных служ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ие ресурс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управления отрасл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лизация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каждому направлению разработана концепция на 2006-2010 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та реализация программ реформирования ПМСП, медицинского образования, развития человеческих ресурсов, управления и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лижайшее время должны развиваться остальные разделы программ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оведено ни одной серьезной реструктуризации отра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лне больших финансовых вливаний отмечается тенденция увеличения  интенсивных показателей, на фоне низкого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структурных преобразов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здание новых отношений, ориентир на конечные результаты деятельности, качество медицинских услуг, ресурсное обеспечение кадрами новой формации, модернизация, внедрение международных стандартов образования, медицинской науки и практ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0066"/>
                </a:solidFill>
                <a:latin typeface="Arial"/>
              </a:rPr>
              <a:t>Вызовы времени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философии новой 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дрение парадигм рыночн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ая интернационализация конкурентоспособного сектора: переход на международные стандарты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НАСТОЯЩАЯ РЕФОРМА ВПЕ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С В ЮК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совое заражение  детей от 2-х месяцев до 2-х лет 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чему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е нару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и 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их технолог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ы в управлении системой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чины кризи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эффективная деятельно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кро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нитарно-эпидемиологического надз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ешнего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утреннего контроля кач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противодействия ВИЧ\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ществующая система здравоохран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отвечает за послед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заинтересована в конечном результ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мотивирована во внедрении последних современных технологий и достижений медицинской нау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 и материально отстал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конкурентоспособ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опросы, которые волнуют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будет с существующей системой организации здравоохра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й будет новая модель? Как будет развиваться здравоохранение в ближайшие год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ернуть доверие населения и уверенность медицинским работника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проблемы отрасли сегодня наиболее актуаль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усилить госпрограмму реформирования и развития отрас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крытые вопрос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ен ли переход на страховую медици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истему здравоохранения, предполагающую ответственность пациента: сооплата, доплата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увеличить зарплату медицинским работника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тимулы для повышения качества услуг и конкурен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2 г.- необходимость создания новой системы здравоохранения: советская 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6-1998 гг. – разработка  и внедрение бюджетно- страховой системы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1999 г. - бюджетная модель: постсоветск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ки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 одна реформа отрасли не была доведена до логического конца, не осмыслена, не проштудирована с извлечением глубоких и системных выв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была проведена действенная структурная реформа отрасли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ефор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предыдущие усилия – первый этап рефор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второго этапа – формирование новой модели здравоохра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 Государственная программа реформирования и развития здравоохранения на 2005-2010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6:41:17Z</dcterms:created>
  <dc:creator>test</dc:creator>
  <dc:description/>
  <dc:language>en-US</dc:language>
  <cp:lastModifiedBy>user</cp:lastModifiedBy>
  <dcterms:modified xsi:type="dcterms:W3CDTF">2006-10-19T11:26:07Z</dcterms:modified>
  <cp:revision>15</cp:revision>
  <dc:subject/>
  <dc:title>Слайд 1</dc:title>
</cp:coreProperties>
</file>